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CEMET Project: Kick-off Meeting (Avilés, 16-17th June 20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8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9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0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E13E62-8F50-476E-AADD-68D136FC9C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CEMET Project: Kick-off Meeting (Avilés, 16-17th June 201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4DBE25B-4FC3-4165-ACA8-25AB62AC2F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128-785C-4DEB-A86C-162C2B08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2B5-8058-462B-834E-1828DF2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479-F7DA-4433-A048-47328BF9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FCE-C6F0-4A2C-B42E-F410E6EE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8BF2-BCD3-4767-A47B-45D2A08B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24E0-13E4-43D0-8FE2-DE73689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B8E0-2250-4D7E-9696-80DB38EA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B52-EADD-4825-B7A4-4CF46E8F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18DC-D7D4-4286-9DA2-5A2B08C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603B-6A41-42C0-81EB-D71876AF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09C2-4C02-4F3E-95E4-E2DFE714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F9F-850D-4DC6-BA7F-608BECB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FAB-944E-4F30-8C3A-4A926471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947F-754C-486F-9243-28A7170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B469-B9A8-46E6-ADED-68B4D99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03D2-E931-4CA3-95B3-AB4F8DCD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C599-72EE-4A5B-A0CE-2F9DB50A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75F-EA13-48C0-8E04-C145F26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344-312E-4514-BD11-2ABAB95E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F27-A948-4B61-AC8D-6A6B1AB2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71E-D24D-4EED-855C-F4D5FF61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65B-54E4-46C6-98BE-68C4F46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848-230C-440F-AFE7-49491E0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2A0-D493-4D2D-81EC-E3844F4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F69-07E1-4AB1-A578-FF81287E640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3A8F-BB69-4D5B-8B59-AB049781EFE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527040" y="61657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6" descr="C:\Users\Yvan.DEX\AppData\Local\Microsoft\Windows\Temporary Internet Files\Content.IE5\U7GHZYA3\MP900398833[1].jpg"/>
          <p:cNvPicPr/>
          <p:nvPr/>
        </p:nvPicPr>
        <p:blipFill>
          <a:blip r:embed="rId2"/>
          <a:stretch/>
        </p:blipFill>
        <p:spPr>
          <a:xfrm>
            <a:off x="7191360" y="260280"/>
            <a:ext cx="1411200" cy="100800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4" descr="logo_mediatic_color.jpg"/>
          <p:cNvPicPr/>
          <p:nvPr/>
        </p:nvPicPr>
        <p:blipFill>
          <a:blip r:embed="rId3"/>
          <a:srcRect l="0" t="0" r="2706" b="9916"/>
          <a:stretch/>
        </p:blipFill>
        <p:spPr>
          <a:xfrm>
            <a:off x="7172280" y="6208560"/>
            <a:ext cx="1027080" cy="64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684360" y="6208560"/>
            <a:ext cx="1758960" cy="623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rreg4c.eu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hyperlink" Target="http://ec.europa.eu/regional_policy/index_en.cfm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Projekts </a:t>
            </a: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</a:t>
            </a:r>
            <a:br>
              <a:rPr sz="2800"/>
            </a:br>
            <a:r>
              <a:rPr b="0" lang="es-ES" sz="1800" spc="-1" strike="noStrike">
                <a:solidFill>
                  <a:srgbClr val="999900"/>
                </a:solidFill>
                <a:latin typeface="Verdana"/>
              </a:rPr>
              <a:t>(</a:t>
            </a:r>
            <a:r>
              <a:rPr b="0" i="1" lang="lv-LV" sz="1800" spc="-1" strike="noStrike">
                <a:solidFill>
                  <a:srgbClr val="999900"/>
                </a:solidFill>
                <a:latin typeface="Verdana"/>
              </a:rPr>
              <a:t>Informācijas sabiedrības un IKT reģionālo politiku izstrāde audiovizuālajā sektorā</a:t>
            </a:r>
            <a:r>
              <a:rPr b="0" lang="lv-LV" sz="1800" spc="-1" strike="noStrike">
                <a:solidFill>
                  <a:srgbClr val="9999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4600" y="1642680"/>
            <a:ext cx="57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reg IVC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ģionālās iniciatīvas projek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Uzsākšan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01/01/20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Noslēgu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/12/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Budž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1.747.721,4 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5229360"/>
          <a:ext cx="5376960" cy="749160"/>
        </p:xfrm>
        <a:graphic>
          <a:graphicData uri="http://schemas.openxmlformats.org/drawingml/2006/table">
            <a:tbl>
              <a:tblPr/>
              <a:tblGrid>
                <a:gridCol w="2867040"/>
                <a:gridCol w="2509920"/>
              </a:tblGrid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DF Fu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89.224,2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ional Public Co-financ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3.827,15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Budget 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.670,00 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BUD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7.721,4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</a:tbl>
          </a:graphicData>
        </a:graphic>
      </p:graphicFrame>
      <p:pic>
        <p:nvPicPr>
          <p:cNvPr id="149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7200" y="3174840"/>
            <a:ext cx="2392200" cy="849600"/>
          </a:xfrm>
          <a:prstGeom prst="rect">
            <a:avLst/>
          </a:prstGeom>
          <a:ln w="0">
            <a:noFill/>
          </a:ln>
        </p:spPr>
      </p:pic>
      <p:pic>
        <p:nvPicPr>
          <p:cNvPr id="150" name="Immagine 4" descr="logo_mediatic_color.jpg"/>
          <p:cNvPicPr/>
          <p:nvPr/>
        </p:nvPicPr>
        <p:blipFill>
          <a:blip r:embed="rId3"/>
          <a:srcRect l="0" t="0" r="2706" b="9916"/>
          <a:stretch/>
        </p:blipFill>
        <p:spPr>
          <a:xfrm>
            <a:off x="6014880" y="4149720"/>
            <a:ext cx="2710080" cy="1712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C:\Users\Marta.Cekule\Desktop\interreg_ES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96000" y="1700280"/>
            <a:ext cx="1546200" cy="1231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6"/>
          <a:stretch/>
        </p:blipFill>
        <p:spPr>
          <a:xfrm>
            <a:off x="2647800" y="6383160"/>
            <a:ext cx="35132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Politiku pārnese un ievieša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Balstoties uz jau projektā paveikto un Observatorijas nodrošināto informāciju, katrs partneris izstrādās individuālu ieviešana plānu, kā arī kopīgu politiku pārneses dokument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olitiku pārneses dokuments tiks prezentēts kā galvenais projekta rezultāts politiku veidotāji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Thanks!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3" name="1 Rectángulo"/>
          <p:cNvSpPr/>
          <p:nvPr/>
        </p:nvSpPr>
        <p:spPr>
          <a:xfrm>
            <a:off x="971640" y="1989000"/>
            <a:ext cx="7667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ank you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 much for your atten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Liels paldies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 jūsu uzmanību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Judit Pereiro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jpereiro@grupodex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4" descr="C:\Users\Marta.Cekule\Desktop\interreg_ES.png"/>
          <p:cNvPicPr/>
          <p:nvPr/>
        </p:nvPicPr>
        <p:blipFill>
          <a:blip r:embed="rId1"/>
          <a:stretch/>
        </p:blipFill>
        <p:spPr>
          <a:xfrm>
            <a:off x="5364000" y="189000"/>
            <a:ext cx="1440000" cy="1147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2870280" y="6392880"/>
            <a:ext cx="35146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Partner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Verdana"/>
              </a:rPr>
              <a:t>Vadošais parneri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eviljas pilsētas do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p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artner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Verdan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San Sebasti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nas reģionālā attīstības aģentū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Sp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Korkas Tehnoloģiju institū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Īr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) Vidzem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es plānošanas reģion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L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tv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Vietējo padomju asociācij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M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) Bielsko-Biala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reģionālās attīstības aģentūr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l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)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Dženovas pašvaldīb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I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tāl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) ERNACT EEIG –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Īr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) Kristiansandas pašvaldība– N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rvēģ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) Derijas pilsētas dome-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Lielbritāni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C:\Users\Yvan.DEX\AppData\Local\Microsoft\Windows\Temporary Internet Files\Content.IE5\U7GHZYA3\MP900309219[1].jpg"/>
          <p:cNvPicPr/>
          <p:nvPr/>
        </p:nvPicPr>
        <p:blipFill>
          <a:blip r:embed="rId1"/>
          <a:stretch/>
        </p:blipFill>
        <p:spPr>
          <a:xfrm>
            <a:off x="7093080" y="5048280"/>
            <a:ext cx="1568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Pamatojums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2010. gada novembrī divi partneri (Sevilja un San Sebastiana), kuriem ir spēcīga saikne ar audiovizuālajām un radošajām industrijām uzsāka attīstīt projekta ideju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Risināmās problēma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udiovizuālie izaicinājumi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ttīstīb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jaunās tehnoloģijas, kultūras un radošā satura pieejamība un izplatīšan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iprināt jomas starpnozaru un starpreģionu  uzņēmumu sadarbību, lai mazinātu segregāciju starptautiskajā tirgū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Palielināt IKT pielietojumu audiovizuālajās un radošajās industrijā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galvenie mērķ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@TIC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mērķis ir dalīties ar informāciju un pieredzi starp reģioniem, pilsētām ar spēcīgu specializāciju mediju un digitālajā sektor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rojekta uzdevum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Uzlabot vietējās un reģionālās zināšanas par jaunām iespējām mediju un audiovizuālajā sektorā , kuras sniedz Informācijas Sabiedrīb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inovatīvus atbalsta risinājumus uzņēmumiem, kuriem jāpiemērojas jauniem izaicinājumi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apakšmērķi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, analizēt un izvērtēt </a:t>
            </a: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politikas IKT risinājumu ieviešanā audiovizuālā sektora uzņēmumi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, analizēt un izvērtēt inovatīvus atbalsta risinājumus audiovizuālā satura radīšanu digitālajā ērā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un </a:t>
            </a:r>
            <a:r>
              <a:rPr b="1" lang="lv-LV" sz="2000" spc="-1" strike="noStrike">
                <a:solidFill>
                  <a:srgbClr val="000000"/>
                </a:solidFill>
                <a:latin typeface="Verdana"/>
              </a:rPr>
              <a:t>pārņemt labās prakses piemērus IKT jomā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499"/>
              </a:spcBef>
              <a:spcAft>
                <a:spcPts val="601"/>
              </a:spcAft>
              <a:buClr>
                <a:srgbClr val="666600"/>
              </a:buClr>
              <a:buSzPct val="7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Identificēt un pārnest starpsektoru, starpinstitucionālos un starpreģionālos labās prakses sadarbības piemērus IKT un audiovizuālajā jom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Darba grupu (DG) izveid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DG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Audiovizuālā satura radīšana, lai atbalstītu jauna veida izplatīšanu digitālajā ērā (internets, mobilās tehnoloģijas, digitālā televīzija, jauni digitālie atbalsta veidi utt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D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: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tarpsektoru (un starpreģionāla) sadarbība starp uzņēmumiem, kas rada digitālu saturu un audiovizuālajā sektorā kopum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et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odoloģija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trs partneris ir izstrādājis sava reģiona audiovizuālā sektora SVID analī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Analīze ir identificējusi teritorijas, kuras iegūtu visvairāk no labo prakšu ieviešanas savā reģion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et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odoloģija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radošās darbnīcas u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in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āri,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lai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piesaistītu plašāku ekspertu auditoriju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vietu vizīt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ajā skait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mo Cen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trs u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the Nerve Cent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</a:rPr>
              <a:t>s Derijā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Medi@TIC – </a:t>
            </a:r>
            <a:r>
              <a:rPr b="0" lang="lv-LV" sz="2800" spc="-1" strike="noStrike">
                <a:solidFill>
                  <a:srgbClr val="999900"/>
                </a:solidFill>
                <a:latin typeface="Verdana"/>
              </a:rPr>
              <a:t>metodoloģija</a:t>
            </a:r>
            <a:endParaRPr b="0" lang="en-US" sz="2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l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)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Izpēte un pieredzes apmaiņ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di@TIC </a:t>
            </a:r>
            <a:r>
              <a:rPr b="1" lang="lv-LV" sz="2400" spc="-1" strike="noStrike">
                <a:solidFill>
                  <a:srgbClr val="000000"/>
                </a:solidFill>
                <a:latin typeface="Verdana"/>
              </a:rPr>
              <a:t>observator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Tehnoloģisks instruments, ko izstrādājis Korkas tehnoloģiju institūts, lai informētu par likumdošanas aktualitātēm, aktīvajām politikām un iniciatīvām sektor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5:09:40Z</dcterms:created>
  <dc:creator>Yvan Corbat</dc:creator>
  <dc:description/>
  <dc:language>en-US</dc:language>
  <cp:lastModifiedBy>Marta Cekule</cp:lastModifiedBy>
  <cp:lastPrinted>2014-03-04T17:35:03Z</cp:lastPrinted>
  <dcterms:modified xsi:type="dcterms:W3CDTF">2014-08-22T09:22:16Z</dcterms:modified>
  <cp:revision>126</cp:revision>
  <dc:subject/>
  <dc:title>EUCEMET: Kick-off Meeting</dc:title>
</cp:coreProperties>
</file>